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13F9-001F-46CA-A973-70D325A5F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CCBB-8ED6-4646-941F-33BC84F9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6702-1678-4F43-A33D-C1B68264A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FD8F-0668-4EB1-A912-3AB6DAEE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2DE1-0C77-4F3F-BE42-EE60EFD6A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CE53-54C8-46E3-BCB0-FF3208BB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8B0E-015E-4882-90FC-D17E1D46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460B-DCA4-42EA-A83F-C4AF93EF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2AE7-376D-4C6E-B9E7-780C1543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D4BE-F711-4471-A212-67777281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7EB9-EAEF-43E9-BBFD-1B28901E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C861-0C07-4EED-B6E2-4F8C2215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050E-4A73-4C89-B3CC-858E6356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B99D-C26F-49ED-B6A7-B799431C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4971-7638-48AF-AC86-138F0354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AFD6-7878-4C0F-96DA-CBB28AFF1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39CF-9A15-4A3C-BBA3-20AAAE65C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0663-978C-42CE-AF4A-3EC6EE19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6131-0DB9-4F34-AD6A-FD121296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19F5-4AFA-4173-B6BD-E4DCBA71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98D8-7692-4B58-B9C8-8CA28086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59EC-9149-44F6-8E12-AFC0ECED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E236-D844-486B-BF03-443240E5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9698-0869-460A-A4D0-F4691947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3366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33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3366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33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336600"/>
          </a:solidFill>
          <a:ln w="936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8188-2C7A-450A-A7F4-0CB2624CE11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336600"/>
          </a:solidFill>
          <a:ln w="936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3366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33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3366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33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2015-8960-4125-BEEB-937A93E44DC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573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riting Complex Sentenc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5"/>
          <p:cNvSpPr/>
          <p:nvPr/>
        </p:nvSpPr>
        <p:spPr>
          <a:xfrm>
            <a:off x="777960" y="5060880"/>
            <a:ext cx="720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ependent clause needs the rest of the sentence for support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Text Box 26"/>
          <p:cNvSpPr/>
          <p:nvPr/>
        </p:nvSpPr>
        <p:spPr>
          <a:xfrm>
            <a:off x="1144440" y="31320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cause you love me, I love you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4" name="Group 32"/>
          <p:cNvGrpSpPr/>
          <p:nvPr/>
        </p:nvGrpSpPr>
        <p:grpSpPr>
          <a:xfrm>
            <a:off x="1408320" y="2057400"/>
            <a:ext cx="3436200" cy="1076040"/>
            <a:chOff x="1408320" y="2057400"/>
            <a:chExt cx="3436200" cy="1076040"/>
          </a:xfrm>
        </p:grpSpPr>
        <p:sp>
          <p:nvSpPr>
            <p:cNvPr id="105" name="AutoShape 27"/>
            <p:cNvSpPr/>
            <p:nvPr/>
          </p:nvSpPr>
          <p:spPr>
            <a:xfrm rot="16218600">
              <a:off x="2859480" y="1140480"/>
              <a:ext cx="533520" cy="3433320"/>
            </a:xfrm>
            <a:custGeom>
              <a:avLst/>
              <a:gdLst>
                <a:gd name="textAreaLeft" fmla="*/ 0 w 533520"/>
                <a:gd name="textAreaRight" fmla="*/ 192600 w 533520"/>
                <a:gd name="textAreaTop" fmla="*/ 89280 h 3433320"/>
                <a:gd name="textAreaBottom" fmla="*/ 3344040 h 34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6" name="Text Box 28"/>
            <p:cNvSpPr/>
            <p:nvPr/>
          </p:nvSpPr>
          <p:spPr>
            <a:xfrm>
              <a:off x="1497240" y="2057400"/>
              <a:ext cx="2993400" cy="459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Dependent clause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7" name="Group 33"/>
          <p:cNvGrpSpPr/>
          <p:nvPr/>
        </p:nvGrpSpPr>
        <p:grpSpPr>
          <a:xfrm>
            <a:off x="4497480" y="3581640"/>
            <a:ext cx="3123720" cy="921600"/>
            <a:chOff x="4497480" y="3581640"/>
            <a:chExt cx="3123720" cy="921600"/>
          </a:xfrm>
        </p:grpSpPr>
        <p:sp>
          <p:nvSpPr>
            <p:cNvPr id="108" name="AutoShape 29"/>
            <p:cNvSpPr/>
            <p:nvPr/>
          </p:nvSpPr>
          <p:spPr>
            <a:xfrm flipV="1" rot="5381400">
              <a:off x="5868720" y="2954160"/>
              <a:ext cx="380880" cy="16441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42840 h 1644120"/>
                <a:gd name="textAreaBottom" fmla="*/ 1601280 h 164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9" name="Text Box 30"/>
            <p:cNvSpPr/>
            <p:nvPr/>
          </p:nvSpPr>
          <p:spPr>
            <a:xfrm>
              <a:off x="4497480" y="4043520"/>
              <a:ext cx="3123720" cy="4597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Independent clause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mplex Senten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9"/>
          <p:cNvSpPr/>
          <p:nvPr/>
        </p:nvSpPr>
        <p:spPr>
          <a:xfrm>
            <a:off x="1179360" y="3743280"/>
            <a:ext cx="7242480" cy="21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ependent claus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ains a subject and verb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does not express a complete thought because it begins with a subordinating conjunction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dependent clause is also called 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ubordin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use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epende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laus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like babies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anno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tand alon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2209680" y="2789280"/>
            <a:ext cx="449604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Garamond"/>
              </a:rPr>
              <a:t>Because you love me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13" name="Group 43"/>
          <p:cNvGrpSpPr/>
          <p:nvPr/>
        </p:nvGrpSpPr>
        <p:grpSpPr>
          <a:xfrm>
            <a:off x="4800600" y="1774800"/>
            <a:ext cx="2286000" cy="900000"/>
            <a:chOff x="4800600" y="1774800"/>
            <a:chExt cx="2286000" cy="900000"/>
          </a:xfrm>
        </p:grpSpPr>
        <p:sp>
          <p:nvSpPr>
            <p:cNvPr id="114" name="Text Box 11"/>
            <p:cNvSpPr/>
            <p:nvPr/>
          </p:nvSpPr>
          <p:spPr>
            <a:xfrm>
              <a:off x="4800600" y="1774800"/>
              <a:ext cx="2286000" cy="5814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aramond"/>
                </a:rPr>
                <a:t>Fragment!</a:t>
              </a:r>
              <a:endParaRPr b="0" lang="en-US" sz="3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5" name="Line 12"/>
            <p:cNvSpPr/>
            <p:nvPr/>
          </p:nvSpPr>
          <p:spPr>
            <a:xfrm flipH="1">
              <a:off x="5181480" y="2446200"/>
              <a:ext cx="533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ependent Clau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unctuation for Complex Sente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74200" y="2338560"/>
            <a:ext cx="771372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as are used to join a dependent clause 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independent claus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dependent cla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e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 the sentence. The comma mus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llow the dependent clau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I walked down the hallway , I could hear the echo of my footstep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Oval 4"/>
          <p:cNvSpPr/>
          <p:nvPr/>
        </p:nvSpPr>
        <p:spPr>
          <a:xfrm flipH="1">
            <a:off x="5486400" y="4359240"/>
            <a:ext cx="574560" cy="617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unctuation for Complex Sente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2338560"/>
            <a:ext cx="8001000" cy="38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o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a is used when the dependent clau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e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independent clause. Then, th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uses are joined without any punctu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could hear the echo of my footsteps as I walked down the hallway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unctuation for Complex Sente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22125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ce dependent clauses are only part of a sentence, you can never use a semicolon to connect them to another sentence.  Semicolons are only us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betwee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mplete senten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have loved you for years ; although I never admitted i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have loved you for years although I never admitted i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Oval 4"/>
          <p:cNvSpPr/>
          <p:nvPr/>
        </p:nvSpPr>
        <p:spPr>
          <a:xfrm>
            <a:off x="5557680" y="3929040"/>
            <a:ext cx="594000" cy="649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25" name="Group 11"/>
          <p:cNvGrpSpPr/>
          <p:nvPr/>
        </p:nvGrpSpPr>
        <p:grpSpPr>
          <a:xfrm>
            <a:off x="5557680" y="5025960"/>
            <a:ext cx="1084320" cy="618840"/>
            <a:chOff x="5557680" y="5025960"/>
            <a:chExt cx="1084320" cy="618840"/>
          </a:xfrm>
        </p:grpSpPr>
        <p:sp>
          <p:nvSpPr>
            <p:cNvPr id="126" name="Text Box 7"/>
            <p:cNvSpPr/>
            <p:nvPr/>
          </p:nvSpPr>
          <p:spPr>
            <a:xfrm>
              <a:off x="6053040" y="5276520"/>
              <a:ext cx="588960" cy="368280"/>
            </a:xfrm>
            <a:prstGeom prst="rect">
              <a:avLst/>
            </a:prstGeom>
            <a:solidFill>
              <a:srgbClr val="33cc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7" name="Line 8"/>
            <p:cNvSpPr/>
            <p:nvPr/>
          </p:nvSpPr>
          <p:spPr>
            <a:xfrm flipH="1" flipV="1">
              <a:off x="5557680" y="5025960"/>
              <a:ext cx="463680" cy="29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28" name="Group 10"/>
          <p:cNvGrpSpPr/>
          <p:nvPr/>
        </p:nvGrpSpPr>
        <p:grpSpPr>
          <a:xfrm>
            <a:off x="6151680" y="4410000"/>
            <a:ext cx="997920" cy="368280"/>
            <a:chOff x="6151680" y="4410000"/>
            <a:chExt cx="997920" cy="368280"/>
          </a:xfrm>
        </p:grpSpPr>
        <p:sp>
          <p:nvSpPr>
            <p:cNvPr id="129" name="Text Box 6"/>
            <p:cNvSpPr/>
            <p:nvPr/>
          </p:nvSpPr>
          <p:spPr>
            <a:xfrm>
              <a:off x="6561000" y="4410000"/>
              <a:ext cx="588600" cy="368280"/>
            </a:xfrm>
            <a:prstGeom prst="rect">
              <a:avLst/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No!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0" name="Line 9"/>
            <p:cNvSpPr/>
            <p:nvPr/>
          </p:nvSpPr>
          <p:spPr>
            <a:xfrm flipH="1" flipV="1">
              <a:off x="6151680" y="4410000"/>
              <a:ext cx="490320" cy="23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88880" y="507600"/>
            <a:ext cx="8277120" cy="10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on Subordinating (Dependent) Conjunc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Se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Foundations First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. 18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80880" y="1981080"/>
          <a:ext cx="8534520" cy="4199040"/>
        </p:xfrm>
        <a:graphic>
          <a:graphicData uri="http://schemas.openxmlformats.org/drawingml/2006/table">
            <a:tbl>
              <a:tblPr/>
              <a:tblGrid>
                <a:gridCol w="1600200"/>
                <a:gridCol w="1812960"/>
                <a:gridCol w="1997280"/>
                <a:gridCol w="1417680"/>
                <a:gridCol w="1706400"/>
              </a:tblGrid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f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ven i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w th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hou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ven thou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ou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re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ther th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r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 i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t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ca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or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 th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f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c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Compound-Complex Sent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74560" y="2593800"/>
            <a:ext cx="7470720" cy="35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mpound-complex sentence is the last and most complicated type of senten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contains at least one dependent clause and at least two independent claus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2"/>
          <p:cNvSpPr/>
          <p:nvPr/>
        </p:nvSpPr>
        <p:spPr>
          <a:xfrm>
            <a:off x="865080" y="5716440"/>
            <a:ext cx="77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dependent clause added 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tw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r more independent claus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1752480" y="2971800"/>
            <a:ext cx="7086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cause we are a family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love you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, 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you love 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37" name="Group 33"/>
          <p:cNvGrpSpPr/>
          <p:nvPr/>
        </p:nvGrpSpPr>
        <p:grpSpPr>
          <a:xfrm>
            <a:off x="3431880" y="4268520"/>
            <a:ext cx="3809880" cy="1067040"/>
            <a:chOff x="3431880" y="4268520"/>
            <a:chExt cx="3809880" cy="1067040"/>
          </a:xfrm>
        </p:grpSpPr>
        <p:sp>
          <p:nvSpPr>
            <p:cNvPr id="138" name="Text Box 27"/>
            <p:cNvSpPr/>
            <p:nvPr/>
          </p:nvSpPr>
          <p:spPr>
            <a:xfrm>
              <a:off x="3965400" y="4827600"/>
              <a:ext cx="3276360" cy="4597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Independent clauses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9" name="Line 28"/>
            <p:cNvSpPr/>
            <p:nvPr/>
          </p:nvSpPr>
          <p:spPr>
            <a:xfrm flipH="1" flipV="1">
              <a:off x="3431880" y="4268520"/>
              <a:ext cx="1447560" cy="990360"/>
            </a:xfrm>
            <a:prstGeom prst="line">
              <a:avLst/>
            </a:prstGeom>
            <a:ln w="93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0" name="Line 29"/>
            <p:cNvSpPr/>
            <p:nvPr/>
          </p:nvSpPr>
          <p:spPr>
            <a:xfrm flipV="1">
              <a:off x="5413320" y="4344840"/>
              <a:ext cx="1294920" cy="990720"/>
            </a:xfrm>
            <a:prstGeom prst="line">
              <a:avLst/>
            </a:prstGeom>
            <a:ln w="93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41" name="Group 32"/>
          <p:cNvGrpSpPr/>
          <p:nvPr/>
        </p:nvGrpSpPr>
        <p:grpSpPr>
          <a:xfrm>
            <a:off x="2089440" y="1981080"/>
            <a:ext cx="5582160" cy="1005840"/>
            <a:chOff x="2089440" y="1981080"/>
            <a:chExt cx="5582160" cy="1005840"/>
          </a:xfrm>
        </p:grpSpPr>
        <p:sp>
          <p:nvSpPr>
            <p:cNvPr id="142" name="Text Box 25"/>
            <p:cNvSpPr/>
            <p:nvPr/>
          </p:nvSpPr>
          <p:spPr>
            <a:xfrm>
              <a:off x="2376720" y="1981080"/>
              <a:ext cx="4864320" cy="459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Dependent clause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3" name="AutoShape 31"/>
            <p:cNvSpPr/>
            <p:nvPr/>
          </p:nvSpPr>
          <p:spPr>
            <a:xfrm rot="16218600">
              <a:off x="4632840" y="-65520"/>
              <a:ext cx="495360" cy="5579640"/>
            </a:xfrm>
            <a:custGeom>
              <a:avLst/>
              <a:gdLst>
                <a:gd name="textAreaLeft" fmla="*/ 0 w 495360"/>
                <a:gd name="textAreaRight" fmla="*/ 178920 w 495360"/>
                <a:gd name="textAreaTop" fmla="*/ 145440 h 5579640"/>
                <a:gd name="textAreaBottom" fmla="*/ 5434200 h 55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79930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pound-Complex Senten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04920" y="22096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523880" y="2209680"/>
          <a:ext cx="6248520" cy="3143520"/>
        </p:xfrm>
        <a:graphic>
          <a:graphicData uri="http://schemas.openxmlformats.org/drawingml/2006/table">
            <a:tbl>
              <a:tblPr/>
              <a:tblGrid>
                <a:gridCol w="2830680"/>
                <a:gridCol w="3417840"/>
              </a:tblGrid>
              <a:tr h="11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99ff"/>
                          </a:solidFill>
                          <a:latin typeface="Verdana"/>
                        </a:rPr>
                        <a:t>Simp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99ff"/>
                          </a:solidFill>
                          <a:latin typeface="Verdana"/>
                        </a:rPr>
                        <a:t>Compoun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99ff"/>
                          </a:solidFill>
                          <a:latin typeface="Verdana"/>
                        </a:rPr>
                        <a:t>Comple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ff"/>
                          </a:solidFill>
                          <a:latin typeface="Verdana"/>
                        </a:rPr>
                        <a:t>Compound-compl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Text Box 94"/>
          <p:cNvSpPr/>
          <p:nvPr/>
        </p:nvSpPr>
        <p:spPr>
          <a:xfrm>
            <a:off x="623880" y="255600"/>
            <a:ext cx="786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ce every sentence in English fits into one of these four categories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74680" y="304560"/>
            <a:ext cx="829296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now know everything you need to kn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2424240"/>
            <a:ext cx="800100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write anything you want to write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way you want to write it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still get the punctuation right each tim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dependent and Dependent Clau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2021040"/>
            <a:ext cx="80010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ndependent clau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ntains a subject, verb, and makes sense when it stands by itself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hild’s endless crying is very disturbing to her par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ds, flu, and other respiratory infections happen frequently in the winter and cause absences from wor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mes got a cup of coffee and turned on his comput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dependent and Dependent Clau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4200" y="2084400"/>
            <a:ext cx="800100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3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ependen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use contains a subject(s) 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3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b(s), but it does not make sense when i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3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nds by itself because it begins with 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ubordinating conjun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t is supposed to jo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3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to an independent clau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3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3960" indent="-453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cause she has had a terrible cold all week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3960" indent="-453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I got to the office and checked my email this mor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3960" indent="-453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ter Maria and Hector waited for an hour in the doctor’s of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 Simple Senten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6720" y="2403360"/>
            <a:ext cx="6210360" cy="29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imple sentence is on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independent clause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independent clause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ds with a period or semicolo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 Compound Senten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63720" y="2084040"/>
            <a:ext cx="761184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ound sente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made up of two 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e simple sentences joined by one of th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llowing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mma and a coordinating conjun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emico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emicolon and a conjunctive adverb or transitional expre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ordinating Conjunc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2126880"/>
            <a:ext cx="8301240" cy="38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member the coordinating conjunctions by th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ronym: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ANBO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e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junctive Adverb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   and Transitional Express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2062080"/>
            <a:ext cx="8001000" cy="39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njunctive adverb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a word that connects two independent clauses and shows the relationship between the ide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wanted to cash my check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unfortunatel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 bank was clos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ransitional expressio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a phrase that shows that relationshi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could use a job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n the other ha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 like having free ti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ples of Compound Sente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63720" y="2168640"/>
            <a:ext cx="7611840" cy="39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 comma and a coordinating conjun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like to study gramma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love this cla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 semicol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like to study gramma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 love this cla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 semicolon and a conjunctive adverb or transitional express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like to study gramma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; therefor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 love this cla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 Complex Senten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2041200"/>
            <a:ext cx="8001000" cy="3978360"/>
          </a:xfrm>
          <a:prstGeom prst="rect">
            <a:avLst/>
          </a:prstGeom>
          <a:noFill/>
          <a:ln w="12600">
            <a:solidFill>
              <a:srgbClr val="33cccc"/>
            </a:solidFill>
            <a:miter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mplex sentence i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omple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ought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lau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to which 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incomple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ought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epend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lau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has been ad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0099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ordinating conjunction joins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ependent clau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 to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ndependent clau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cause I like to study grammar, I love this cla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love this class because I like to study gramma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30T23:29:26Z</dcterms:created>
  <dc:creator>Linda J. Stine</dc:creator>
  <dc:description/>
  <dc:language>en-US</dc:language>
  <cp:lastModifiedBy>KISD</cp:lastModifiedBy>
  <dcterms:modified xsi:type="dcterms:W3CDTF">2011-03-29T16:11:03Z</dcterms:modified>
  <cp:revision>55</cp:revision>
  <dc:subject/>
  <dc:title>Writing Complex Sentences</dc:title>
</cp:coreProperties>
</file>